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E28-4BFE-4C78-9666-67E3DDD4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A7D-DBA6-49C4-9036-8F9510CC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D9A-C0DF-4A1F-A5AF-430FA32B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A69-FF8E-4A89-8120-40F8AD2F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FD5-4307-42EF-B303-00F624C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A30-35C8-41A6-8E26-76371B27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256-DBF7-473F-8B8F-106BDBAF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BFA-1C4A-48FE-BFCC-B9BDA5E5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B8E-F78A-4B2E-8D4F-D04DBDBE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67B-4723-4934-91BA-F3DE5562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021-2082-4110-AFB5-3641575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081-CBB4-4B96-A5AF-B2254CC7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C8BB-5AB6-48D7-BB14-671E19FB8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14480" y="3076560"/>
            <a:ext cx="3515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siunea iunie-iuli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Elev</cp:lastModifiedBy>
  <dcterms:modified xsi:type="dcterms:W3CDTF">2012-06-18T11:23:36Z</dcterms:modified>
  <cp:revision>38</cp:revision>
  <dc:subject/>
  <dc:title>SALARIUL</dc:title>
</cp:coreProperties>
</file>